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F70-90A1-46B4-A86F-DA0132EE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672-FD5C-4EED-80CA-32E848A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18A-A8E4-44BD-81A3-D6E39AB2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F57-03CC-43B7-8F28-9AC9E356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AA95-66D5-4C74-8DB5-ABC774A7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40B3-A903-420C-9201-693BB715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D281-76BC-445F-9166-0160D2F6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2436-12DE-43C3-B55A-AC7D4DA5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C9E-11C5-4CD6-91BB-694137D9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1120-5F29-4B15-8415-DD7A40D1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D3F7-A922-4674-86DF-9EEE20C3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6D8A-812F-4EA5-872E-179AB3B8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9995-A3A2-459F-BD58-B75B42B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648E-C8C4-432A-9D50-698F4C87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3C74-078D-4B83-9992-E99ED0EE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DC29-12FA-4EDA-B128-5C31CC4C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707C-9456-4538-A12A-3ED9DEBF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914-3627-4BC9-BCE7-BD47FDB2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C34-7BFD-4438-8A4A-89F67DB7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983-737D-46AF-A0AB-F074ADF1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4E0-4B9F-46FE-93C4-1FEDF494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6D4-7085-4899-8E31-2221C07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065-0DD3-4B35-A04D-A766BCE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792-EAD2-4D88-B00C-C78230B3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C965-D31E-443C-903B-1F37D629A4C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ADFD-70DF-469E-AF9A-7039F57C32D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66"/>
                </a:solidFill>
                <a:latin typeface="Arial"/>
              </a:rPr>
              <a:t>Comparatives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267080" y="292752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Page 53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66"/>
                </a:solidFill>
                <a:latin typeface="Arial"/>
              </a:rPr>
              <a:t>Realidades 2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, peor, may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plural forms ending in -es. However, they don’t have a different feminine form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638680"/>
            <a:ext cx="26672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Las hermana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de Pedro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re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que las de Juan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etter) is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i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well)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 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(worse) also the comparative form of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al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badly)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hen used in this sense,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j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peor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only one for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5105520"/>
            <a:ext cx="449568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 en teni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Graciela y Fabián juegan tenis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jor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Susana y Gustav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You have learned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 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in certain expressi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952880"/>
            <a:ext cx="4343400" cy="0"/>
          </a:xfrm>
          <a:prstGeom prst="line">
            <a:avLst/>
          </a:prstGeom>
          <a:ln w="7632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 gusta el tenis pero me gusta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el fútbol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¿Te gustan las manzanas? Si,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o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We also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(‘than’) to make comparison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e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Los discos compactos de Los Toros son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más populares que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los discos compactos de Los Lobos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/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eno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+ adjective +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qué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rge es menos serio que María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agree with the nouns they refer to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The adjectives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bueno, malo, viejo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, and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have irregular comparative forms.  We </a:t>
            </a:r>
            <a:r>
              <a:rPr b="1" lang="en-US" sz="4800" spc="-1" strike="noStrike">
                <a:solidFill>
                  <a:srgbClr val="003366"/>
                </a:solidFill>
                <a:latin typeface="Arial"/>
              </a:rPr>
              <a:t>do not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use </a:t>
            </a:r>
            <a:r>
              <a:rPr b="0" i="1" lang="en-US" sz="4800" spc="-1" strike="noStrike">
                <a:solidFill>
                  <a:srgbClr val="003366"/>
                </a:solidFill>
                <a:latin typeface="Arial"/>
              </a:rPr>
              <a:t>más</a:t>
            </a: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 with them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Comparative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buen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l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viejo, a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joven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28195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92520" y="2362320"/>
            <a:ext cx="32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j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373392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572000"/>
            <a:ext cx="14475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5486400"/>
            <a:ext cx="14479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93240" y="3276720"/>
            <a:ext cx="29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pe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64280" y="4114800"/>
            <a:ext cx="34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ay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41320" y="5029200"/>
            <a:ext cx="349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menor (que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0:45Z</dcterms:created>
  <dc:creator>Tom Shirley</dc:creator>
  <dc:description/>
  <dc:language>en-US</dc:language>
  <cp:lastModifiedBy>Local User</cp:lastModifiedBy>
  <cp:lastPrinted>2009-04-22T19:24:48Z</cp:lastPrinted>
  <dcterms:modified xsi:type="dcterms:W3CDTF">2007-09-18T14:25:00Z</dcterms:modified>
  <cp:revision>11</cp:revision>
  <dc:subject/>
  <dc:title>PowerPoint Presentation</dc:title>
</cp:coreProperties>
</file>